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297-718F-498F-81DA-5D88661A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71A-4D36-45A7-9FF9-786B7884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C13-0E1E-4155-A38B-8B075CE7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B91-C818-4276-B063-8C8DF119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E15D-6255-4E65-9B02-9FD21176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FE3-EFED-48E2-99D4-2298ADB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1CAE-C5F6-4C97-B01F-17D7427C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3C06-DDF4-42F6-ACCE-FD29930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595B-F5C3-4002-AE59-5054310E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E055-C707-4544-B5D8-ACE2B4E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4A46-E1D8-4C5E-BB41-C5E0644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CB2-06AD-4871-91FB-700E1FB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260-BC1B-4060-B8F1-CAF95FE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F88A-DE76-4E47-9B70-B9AD82F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7EED-DC95-43D4-9DDF-BBF908A6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CA0-4849-4B8D-9C86-8EA5C614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F1AB-9136-4455-92D0-A5929479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8B1-3B63-4F3A-BDEB-A79C3EA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276-58C0-40E7-87FB-580F14C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ECC-694F-4B6E-9CAE-267CC116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B3F-3BA1-487F-95C2-47DD6822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DB5-B719-4BAC-AA84-107DB76F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B0C-EFE0-4863-98D9-66711F2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B4F-26D9-4E30-BEE5-D59D845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A4EE-CAA9-4311-8D43-CD8E4CCDF2A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139-0A12-4E7C-9D5B-12ED8B450B8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-152280" y="244440"/>
            <a:ext cx="9448560" cy="585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777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8429760" cy="562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Картинка 66 из 107813"/>
          <p:cNvPicPr/>
          <p:nvPr/>
        </p:nvPicPr>
        <p:blipFill>
          <a:blip r:embed="rId3"/>
          <a:stretch/>
        </p:blipFill>
        <p:spPr>
          <a:xfrm>
            <a:off x="2786040" y="3429000"/>
            <a:ext cx="33274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85840"/>
            <a:ext cx="82296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лодость! Возьми с собой в дорог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ую заветную мечт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людей душевную тревог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дца жар и мыслей красоту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дрость чувст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ойкость в бурях жизн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жество во всем и до конц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рность друг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анность Отчизне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я гражданина и бор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Картинка 3 из 87052"/>
          <p:cNvPicPr/>
          <p:nvPr/>
        </p:nvPicPr>
        <p:blipFill>
          <a:blip r:embed="rId1"/>
          <a:srcRect l="5789" t="7533" r="5789" b="13014"/>
          <a:stretch/>
        </p:blipFill>
        <p:spPr>
          <a:xfrm>
            <a:off x="4857840" y="3857760"/>
            <a:ext cx="40910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Страны с таким названьем нет на карт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Но вы её себе сейчас представь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Она бывает часто рядом с на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Коррупция</a:t>
            </a: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 – страну эту назва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Здесь правде и законам места н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Здесь правят только деньги много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Преступности и клеветы пол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Жестокая и страшная стр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В неё ведёт тернистый долгий пу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Идти туда – назад не поверну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Но будущего нет у той стран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Против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КОРРУПЦИИ </a:t>
            </a: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все вместе встанем м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268200" y="274680"/>
            <a:ext cx="8699760" cy="126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523880" y="16686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Андрей\Downloads\img2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Андрей\Downloads\slide-3.jpg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28760" y="1216080"/>
            <a:ext cx="7858080" cy="557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sedmitza.ru/data/075/698/1234/6950.jpg"/>
          <p:cNvPicPr/>
          <p:nvPr/>
        </p:nvPicPr>
        <p:blipFill>
          <a:blip r:embed="rId3"/>
          <a:stretch/>
        </p:blipFill>
        <p:spPr>
          <a:xfrm>
            <a:off x="214200" y="1143000"/>
            <a:ext cx="2438640" cy="335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www.spsl.nsc.ru/history/descr/PICTURE/spis80r1.jpg"/>
          <p:cNvPicPr/>
          <p:nvPr/>
        </p:nvPicPr>
        <p:blipFill>
          <a:blip r:embed="rId4"/>
          <a:stretch/>
        </p:blipFill>
        <p:spPr>
          <a:xfrm>
            <a:off x="3286080" y="1857240"/>
            <a:ext cx="2786040" cy="341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dic.academic.ru/pictures/wiki/files/86/Vernet_nikolas_1.jpg"/>
          <p:cNvPicPr/>
          <p:nvPr/>
        </p:nvPicPr>
        <p:blipFill>
          <a:blip r:embed="rId5"/>
          <a:stretch/>
        </p:blipFill>
        <p:spPr>
          <a:xfrm>
            <a:off x="6286680" y="3429000"/>
            <a:ext cx="266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s://avatars.mds.yandex.net/i?id=4ed661e8e70a264130a0337309cb600931bd306a-10137108-images-thumbs&amp;n=13"/>
          <p:cNvPicPr/>
          <p:nvPr/>
        </p:nvPicPr>
        <p:blipFill>
          <a:blip r:embed="rId2"/>
          <a:stretch/>
        </p:blipFill>
        <p:spPr>
          <a:xfrm>
            <a:off x="250920" y="1268280"/>
            <a:ext cx="849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705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49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Пользователь Windows</cp:lastModifiedBy>
  <dcterms:modified xsi:type="dcterms:W3CDTF">2023-12-01T13:45:12Z</dcterms:modified>
  <cp:revision>15</cp:revision>
  <dc:subject/>
  <dc:title>Слайд 1</dc:title>
</cp:coreProperties>
</file>